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DDA9-F519-4741-B1B5-BE80719E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F1F4-06EF-42B2-9DD8-086841F7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2CC8-DC49-4E35-AC6E-2BB85DA8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0F6B-95CF-45A0-A8D7-B20EE8EB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4EEDF-C0E4-4D7E-860E-39BCB406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F665E-F9A9-4782-8141-C8A88AB9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B4E68-104A-4AAE-84BC-9224D5E2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8D77A-46F7-41F0-A291-E9C7F8B9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6F872-8051-46B6-9A81-4ED2B6A1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4A90E-3B4E-4A18-942D-B933C55C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64573-3363-413C-8363-9D9F98F3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DBF6-83E5-4171-9DA7-0B0C6400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BD85B-32C6-4E88-809F-9C8FA75B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F747F-E504-4670-9997-1F7CA8FD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FF56B-F228-4B86-9B36-EEF81741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30532-7A43-4273-926B-C0EB4BDC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AD8FB-3A0A-4F65-AD28-BD63EE7A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5D60-D9D3-4E9B-BCDC-63D806BB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53F-5562-42F4-98A3-8BDA4439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6CC6-4EE4-45F1-B6F8-9174394F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FE2A-E49A-4E9E-95E3-83A49454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6A18-97B2-4250-9EB2-18850C5B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B505-CC0D-49F0-917B-B5E2BC0E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7680-A520-40CE-8972-D9EB88EF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D588-1E11-4CC4-AD7D-0C4A34AD77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1507-0EB1-4555-BE39-5302574F18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9140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rld at Peace by J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2282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5315040"/>
            <a:ext cx="1593720" cy="1542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550280" y="5315040"/>
            <a:ext cx="1593720" cy="1542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-38160" y="-23760"/>
            <a:ext cx="1220760" cy="1724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3124080" y="3352680"/>
            <a:ext cx="2590920" cy="350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 can’t separate peace from freedom because no one can be at peace unless he has freedom.”  Malcolm X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25960" y="4478400"/>
            <a:ext cx="1396800" cy="182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re is no way to peace, peace is the way.”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A.J. Mus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85840" y="42861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00760" y="45147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ace comes from within, don’t seek without.”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uddh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210440" y="5079960"/>
            <a:ext cx="1933560" cy="1778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5145120"/>
            <a:ext cx="1828800" cy="1712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ace is it’s own reward.” Mahatama Gandhi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67000" y="4849920"/>
            <a:ext cx="191448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you wish to experience peace you must give peace to others.” Tenzin Gyats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971800" y="4800600"/>
            <a:ext cx="2209680" cy="2057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ace is not the absence of conflict, but the ability to cope.”  Unknow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00400" y="4572000"/>
            <a:ext cx="220968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8120" y="7617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39080" y="5251320"/>
            <a:ext cx="1974600" cy="1486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74680" y="5208480"/>
            <a:ext cx="1974960" cy="1486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7047000" y="125280"/>
            <a:ext cx="193032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81080" y="66600"/>
            <a:ext cx="1930320" cy="114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2895480" y="3218040"/>
            <a:ext cx="19306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6:49:43Z</dcterms:created>
  <dc:creator>Vanessa Collier</dc:creator>
  <dc:description/>
  <dc:language>en-US</dc:language>
  <cp:lastModifiedBy>Joni George</cp:lastModifiedBy>
  <dcterms:modified xsi:type="dcterms:W3CDTF">2010-04-26T18:58:30Z</dcterms:modified>
  <cp:revision>7</cp:revision>
  <dc:subject/>
  <dc:title>You can’t separate peace from freedom because no one can be at peace unless he has his freedom</dc:title>
</cp:coreProperties>
</file>